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3.1 - </a:t>
            </a:r>
            <a:fld id="{D77A3C45-7757-4F02-B2B1-1A73A7096FB2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wmf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wmf"/><Relationship Id="rId2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4.wmf"/><Relationship Id="rId2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ultipl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945800"/>
            <a:ext cx="830592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       and        are real numb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not true when        and        are not real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Remember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76520" y="1946160"/>
          <a:ext cx="4953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46160"/>
                    <a:ext cx="495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901960" y="1946160"/>
          <a:ext cx="48276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1960" y="1946160"/>
                    <a:ext cx="4827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019920" y="1946160"/>
          <a:ext cx="223524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1946160"/>
                    <a:ext cx="22352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803760" y="2987640"/>
          <a:ext cx="49536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3760" y="2987640"/>
                    <a:ext cx="495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029200" y="2987640"/>
          <a:ext cx="48276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2987640"/>
                    <a:ext cx="4827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and simplify each of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00280" y="2057400"/>
          <a:ext cx="240012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2057400"/>
                    <a:ext cx="2400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619440" y="2057400"/>
          <a:ext cx="26290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9440" y="2057400"/>
                    <a:ext cx="2629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6705720" y="1981080"/>
          <a:ext cx="1765080" cy="52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1981080"/>
                    <a:ext cx="17650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609480" y="2832120"/>
            <a:ext cx="2210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600" indent="-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49240" y="3505320"/>
          <a:ext cx="578016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49240" y="3505320"/>
                    <a:ext cx="57801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301920" y="4267080"/>
          <a:ext cx="1447920" cy="30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01920" y="4267080"/>
                    <a:ext cx="1447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276720" y="4813200"/>
          <a:ext cx="1117440" cy="36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4813200"/>
                    <a:ext cx="11174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289320" y="5346720"/>
          <a:ext cx="120636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89320" y="5346720"/>
                    <a:ext cx="12063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289320" y="5880240"/>
          <a:ext cx="876240" cy="29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89320" y="5880240"/>
                    <a:ext cx="8762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4267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 contin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85800" y="1816200"/>
          <a:ext cx="51069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16200"/>
                    <a:ext cx="51069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365640" y="2597040"/>
          <a:ext cx="2197080" cy="2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2597040"/>
                    <a:ext cx="219708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3352680" y="3168720"/>
          <a:ext cx="1320840" cy="30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3168720"/>
                    <a:ext cx="13208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711360" y="4114800"/>
          <a:ext cx="483840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1360" y="4114800"/>
                    <a:ext cx="48384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2552760" y="4800600"/>
          <a:ext cx="224784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2760" y="4800600"/>
                    <a:ext cx="22478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2552760" y="5492880"/>
          <a:ext cx="2019240" cy="29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52760" y="5492880"/>
                    <a:ext cx="20192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577960" y="6064200"/>
          <a:ext cx="1689120" cy="292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77960" y="6064200"/>
                    <a:ext cx="16891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plifying Powers of 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raised to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 is 1,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raised to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d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ying power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then be done by using the fact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–1 and expressing the given powe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erm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077840" y="3505320"/>
          <a:ext cx="5170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3505320"/>
                    <a:ext cx="5170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4800600" y="4114800"/>
            <a:ext cx="4114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power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ycle throug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–1, 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jugat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onjug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complex number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s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numbe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omplex conjug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+ 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nd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nd   14 +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nd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roduct of a complex number and its conjugate is a real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ultiplying Conjugates -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of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(5 + 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5 – 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.  (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–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(5 + 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5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9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5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9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5 + 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(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–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4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viding Using Conjugates -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981080"/>
            <a:ext cx="8534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fraction notation. Multiply by 1, using the conjugate of the denominator to form the symbol f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93800" y="3048120"/>
          <a:ext cx="29718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3048120"/>
                    <a:ext cx="2971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50960" y="4216320"/>
          <a:ext cx="2463840" cy="96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0960" y="4216320"/>
                    <a:ext cx="2463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676520" y="5524560"/>
          <a:ext cx="215892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5524560"/>
                    <a:ext cx="21589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6000840" y="3067200"/>
          <a:ext cx="18921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00840" y="3067200"/>
                    <a:ext cx="18921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019920" y="4343400"/>
          <a:ext cx="138420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9920" y="4343400"/>
                    <a:ext cx="1384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019920" y="5619600"/>
          <a:ext cx="1638360" cy="83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5619600"/>
                    <a:ext cx="16383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3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Quadratic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Functions and Eq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u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t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io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ns;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Inequalitie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51424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mplex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dratic Equations, Functions, Zeros, and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ing Graphs of Quadrat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Rational Equations and Radical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Equations and Inequalities with Absolut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2.2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Complex Numbers</a:t>
            </a:r>
            <a:br>
              <a:rPr sz="3600"/>
            </a:b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computations involving complex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Complex-Number Syst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functions have zeros that are not real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omplex-number 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used to find zeros of functions that are not real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looking at a graph of a function, if the 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, then it has n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ntercepts, and thus it h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l-number z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each number in term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47080" y="2165400"/>
            <a:ext cx="131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2120" y="1752480"/>
          <a:ext cx="113004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11300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657600" y="1752480"/>
          <a:ext cx="13208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752480"/>
                    <a:ext cx="13208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566040" y="1752480"/>
          <a:ext cx="160020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66040" y="1752480"/>
                    <a:ext cx="16002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711360" y="2590920"/>
          <a:ext cx="165096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1360" y="2590920"/>
                    <a:ext cx="16509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645000" y="2590920"/>
          <a:ext cx="1307880" cy="44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45000" y="2590920"/>
                    <a:ext cx="13078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762120" y="4114800"/>
          <a:ext cx="247644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120" y="4114800"/>
                    <a:ext cx="24764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685800" y="3429000"/>
            <a:ext cx="8077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429000" y="4114800"/>
          <a:ext cx="157464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29000" y="4114800"/>
                    <a:ext cx="15746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429000" y="4724280"/>
          <a:ext cx="222264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9000" y="4724280"/>
                    <a:ext cx="2222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62120" y="5562720"/>
          <a:ext cx="2819160" cy="444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120" y="5562720"/>
                    <a:ext cx="28191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733920" y="5562720"/>
          <a:ext cx="1726920" cy="444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33920" y="5562720"/>
                    <a:ext cx="17269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733920" y="6254640"/>
          <a:ext cx="1485720" cy="292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33920" y="6254640"/>
                    <a:ext cx="14857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328932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32893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178160" y="1676520"/>
          <a:ext cx="1917720" cy="44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8160" y="1676520"/>
                    <a:ext cx="19177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165560" y="2286000"/>
          <a:ext cx="299736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65560" y="2286000"/>
                    <a:ext cx="2997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723960" y="3124080"/>
          <a:ext cx="340344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960" y="3124080"/>
                    <a:ext cx="34034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267080" y="3124080"/>
          <a:ext cx="196848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3124080"/>
                    <a:ext cx="19684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267080" y="3816360"/>
          <a:ext cx="1854360" cy="29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67080" y="3816360"/>
                    <a:ext cx="18543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352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 contin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55640" y="4413240"/>
          <a:ext cx="283212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5640" y="4413240"/>
                    <a:ext cx="2832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720960" y="4413240"/>
          <a:ext cx="1752840" cy="44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20960" y="4413240"/>
                    <a:ext cx="17528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733920" y="5029200"/>
          <a:ext cx="1384200" cy="444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33920" y="5029200"/>
                    <a:ext cx="13842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733920" y="5575320"/>
          <a:ext cx="1244520" cy="444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33920" y="5575320"/>
                    <a:ext cx="1244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733920" y="6114960"/>
          <a:ext cx="2590560" cy="457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33920" y="6114960"/>
                    <a:ext cx="2590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x Numb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omplex 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number of the for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real numbers. The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aid to be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aid to be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3962520"/>
            <a:ext cx="333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aginary 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≠ 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≠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3962520"/>
            <a:ext cx="40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re Imaginary 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≠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ddition and Subtra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numbers obey the commutative, associative, and distributive la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dd or subtract them as we do binom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llect the real parts and the imaginary parts of complex numbers just as we collect like terms in binom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or subtract and simplify each of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 (8 + 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(3 +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 (4 +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 (6 –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800" y="46483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  (4 +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 (6 –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(4 – 6) + [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–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+ 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26668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 (8 + 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(3 +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(8 + 3) + (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1 + (6 + 2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1 + 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276720" y="205740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574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Cathy Lovingier</cp:lastModifiedBy>
  <dcterms:modified xsi:type="dcterms:W3CDTF">2008-04-17T15:06:09Z</dcterms:modified>
  <cp:revision>230</cp:revision>
  <dc:subject/>
  <dc:title>No Slide Title</dc:title>
</cp:coreProperties>
</file>